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07F-7349-4E3D-9B36-CAFED82A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AC9-BC53-472E-8AE8-6D7EB5B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74C-C28B-4976-85EE-3D50E953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66B-BE52-4E41-A4A6-D15F197F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500-AC71-4546-A561-EF99759A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0DBE-9A32-4C0D-B347-93AB23D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F4C-FBBE-41B0-88A1-ABB5E40B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06F-45D7-40B1-A3CF-C5F9CC1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45F-5C93-4221-A182-6291EF1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E89-8953-43AD-817E-2D44DBD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5EB-D4A3-43A4-B30D-B3618B5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A8C-D31D-4D3E-857B-49F23DC5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B7B3-CEE7-405A-ACFC-CABB1510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how far from zero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S00253_" descr=""/>
          <p:cNvPicPr/>
          <p:nvPr/>
        </p:nvPicPr>
        <p:blipFill>
          <a:blip r:embed="rId1"/>
          <a:stretch/>
        </p:blipFill>
        <p:spPr>
          <a:xfrm>
            <a:off x="3505320" y="3505320"/>
            <a:ext cx="17478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vidual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Section 2.2 in the practice work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1788840" cy="1427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191120"/>
            <a:ext cx="79246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re YOU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I have no clue what she is talking abo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 I remember this from last year but better do my homework and ask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 This is a breeze. Bring on the homewor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pposites on a number l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s that are the same distance from zero are said to be oppo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819520"/>
            <a:ext cx="7315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657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integer set from –5 to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is Absolute Va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Value is the distance a number is from zero. Remember distance itself is ALWAY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583160" cy="1857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4583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denote absolute val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6668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let’s try a f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8600" y="1828800"/>
                <a:ext cx="844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is the symbol used for absolute valu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t is read the absolute value o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200" y="3505320"/>
                <a:ext cx="6984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191120" y="388620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general statement can you make about absolute va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th a negative sign in front of the absolute value sign should be read “take the opposite of”.  This means treat the absolute value sign like a grouping symbol. Do the work inside first THEN  take the opposit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D06665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2445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a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447920" y="1981080"/>
                <a:ext cx="2087280" cy="421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/>
                      <m:e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f the variable is in the absolute value sig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3276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imply means what are ALL the solutions that make this a tru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429000" y="2286000"/>
                <a:ext cx="1339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9480" y="5257800"/>
            <a:ext cx="7239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54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5486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ty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ocity is how fast is something going AND in what direction is it headed? Example: If I am plummeting to earth in a hot air balloon my velocity would be –15 feet per seco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my speed would be the absolute value which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D05694_" descr=""/>
          <p:cNvPicPr/>
          <p:nvPr/>
        </p:nvPicPr>
        <p:blipFill>
          <a:blip r:embed="rId1"/>
          <a:stretch/>
        </p:blipFill>
        <p:spPr>
          <a:xfrm>
            <a:off x="6324480" y="1447920"/>
            <a:ext cx="23799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Thought for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ath it is not enough to just know the answer you have to PROVE you know it.  If you say something is FALSE you must provide a counter examp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00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 counter example to this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e students in Mrs. Rose’s algebra classes are b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267080"/>
            <a:ext cx="8153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determine if these are true or false. If false, provide a counte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– x is never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solute value of a number will always be greater than or equal to that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7:12:30Z</dcterms:created>
  <dc:creator>Cindy Lou Apley</dc:creator>
  <dc:description/>
  <dc:language>en-US</dc:language>
  <cp:lastModifiedBy>User</cp:lastModifiedBy>
  <dcterms:modified xsi:type="dcterms:W3CDTF">2006-09-07T11:52:04Z</dcterms:modified>
  <cp:revision>7</cp:revision>
  <dc:subject/>
  <dc:title>Absolute Value</dc:title>
</cp:coreProperties>
</file>